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0B3-E79B-4607-9094-351623CBCA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F7F9-D9E5-45D2-9820-A2D65A9DA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E8B-E297-4760-9C81-F4F12634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EA1-4503-4AC9-99FA-9088D879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21A-AAA7-4FFA-AB37-045D5C43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1DD-2750-4EF0-A6A6-A35B8F9E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A79-1A82-45BF-BCCD-866BF652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97A-56CF-41AD-9AF8-A8F3E2EC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3BF5-F983-4E48-9388-92674A2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4EB0-D11A-46C8-9F40-1A4D53E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6A84-ED95-4754-88EC-E837776B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CDA-6038-44CB-82C9-1F5C07E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09EA-0F54-47D2-B8F9-7032CDC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798-0C2E-46A0-85AF-F31A138E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FCFD-D999-4AC9-A1D2-3F7C264E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7025-1FDB-4CE1-8186-8691FE1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1D92-AEFA-40D5-A3DA-82A5251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75D3-F8A4-42DD-ADF6-EA022FCD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4AE5-BD18-4F3A-9BC1-FA074155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44F4-1DDB-4D5F-9055-61CA13A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5EDE-D12E-4D20-B2D1-00D8243B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8101-C9E7-4F82-A16A-F6F6063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B866-4AB6-4F30-85F9-27C9948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3A36-7FF5-4808-8AB7-0CEA59F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875-3A98-441E-9447-1426B45A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72C6-E99F-418A-9644-BAC4D17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0D7F-406B-466F-B8E0-9B1FD6B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9165-F826-4D25-AE16-8FD4FF84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C444-05D0-4C8C-8A83-8A681E5B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3173-3160-415D-94FC-290E5D0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8E7A-F613-4A0E-B3C5-779E459D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4272-C20E-48DF-96BF-C91ECD07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F61B-F57A-459C-ABAE-EF16693A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085D-2FC4-4842-AD3C-C891DFB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0260-477F-4D1B-AF5E-37E2BFC2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B1F-B9DF-492F-B409-F3C4969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5A6F-B30B-4DA4-85D4-26F71D9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4BA8-7D94-4D26-BB62-7F2CA84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83D6-648C-4853-87AB-02D32B3E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3FB8-76C1-43B6-BC03-6DD2B9A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084A2-FB78-44A6-81D4-054CDBF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7178-D5E2-4F75-BC54-E261AEF3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8FD51-29F1-4293-B7CF-E8B510F0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CBC9-AA1F-45DE-8C1A-043A0A60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8330-A677-42F3-AFF9-4CC4FE94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6791-20C2-4856-BD80-7B716D6C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AC2-9F8F-49D2-B83A-3FA3B89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79C7B-CC09-43C2-9941-8DB56E97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86F8D-F9A9-494B-955C-1653117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93AB-7FC1-4E7A-B8BD-CE63CB57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6452-904A-42F3-8167-770621A7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2505-330D-4756-A57C-66B27BB4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E04D-B510-4778-AAC5-A002032A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C430-0675-4A44-9FDB-977B2F1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9D43-CB4B-42B1-A66B-A890B1E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0CEFD-B246-4E1D-911F-8139FFE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2286-8D74-425D-86E1-618E80B7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747-52C5-4718-BFDF-E6DAB1D7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57379-5ED6-4D64-9F05-45F3731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82611-B262-4215-9633-273329A0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85C0-1792-4EB2-8906-4C4FD66C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F5AD-0A65-49A0-8D76-544A5B0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1580-48A2-49C7-8618-D677106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53BF-1AE6-4D7F-BA09-551D909B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970E-B9F3-4027-A2B1-056F4791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91F4-A04E-465B-AF06-A8CCD19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942A-27FB-4F7C-826F-BC6924F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A739F-C9A8-45B2-80CB-12028AA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AAB-8682-4B77-8B88-9D6D340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420AF-8BD6-45C7-82D5-FEEBEB0B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588E4-81E4-4B7C-BFBF-DAFCE8E9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6FA1-4F78-44BB-A250-63C5472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F50-26F6-479A-8811-47A351A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814-10BC-4DB4-850C-A6E66C87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43A-D29A-4224-963B-291D8ED24710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DB3-4CD9-4A17-A9E9-56643A0E0B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0D3-E6ED-4456-BDB2-C5C3BBB40269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5D7-9028-43CB-8D88-A4D45CE3DA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CFE-5A5B-4A0B-9AEE-FCFC44A17FC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91C-A16D-4A44-8661-BDE5950EE5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E7F7-AEBB-4F7F-B536-9890698202D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46E8-ED15-4CA6-974D-915B64055C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C6D7-C280-4D32-9663-B1FFABAF350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86E-D0F6-407E-908B-8D7AF03990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91D-B35D-4CA9-B29B-08BCD7B7096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4746-5970-4010-95F3-3CDAB2E9CA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610480" cy="26668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Сведения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о ходе исполнения бюджета Натальевского сельского поселения 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Неклиновского района </a:t>
            </a:r>
            <a:br>
              <a:rPr sz="3600"/>
            </a:br>
            <a:r>
              <a:rPr b="1" i="1" lang="ru-RU" sz="3600" spc="-1" strike="noStrike">
                <a:solidFill>
                  <a:srgbClr val="b13f9a"/>
                </a:solidFill>
                <a:latin typeface="Arial Black"/>
              </a:rPr>
              <a:t>за 1 квартал 2025 год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1403280" y="33336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Arial Black"/>
              </a:rPr>
              <a:t>Доходы бюджета Натальевского сельского поселения за 1 квартал 2025 года составили 4093,3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9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75560" cy="5354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146160" y="-176040"/>
            <a:ext cx="8815320" cy="3455640"/>
          </a:xfrm>
          <a:prstGeom prst="rect">
            <a:avLst/>
          </a:prstGeom>
          <a:ln w="0">
            <a:noFill/>
          </a:ln>
        </p:spPr>
      </p:pic>
      <p:pic>
        <p:nvPicPr>
          <p:cNvPr id="277" name="Объект 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83432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403280" y="333360"/>
            <a:ext cx="62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 Black"/>
              </a:rPr>
              <a:t>Расходы бюджета Натальевского сельского поселения Неклиновского района за 1 квартал 2025 г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 Black"/>
              </a:rPr>
              <a:t>Всего 2932,9 тыс.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ject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49993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а реализацию муниципальных программ Натальевского сельского поселения из бюджета поселения за 1 квартал 2025 года направлено 2726,3 тыс. рублей, что составляет 16,0 процентов к годовым плановым назначениям или 93,0 процентов всех расходов бюджета поселения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Oval 4"/>
          <p:cNvSpPr/>
          <p:nvPr/>
        </p:nvSpPr>
        <p:spPr>
          <a:xfrm>
            <a:off x="2743200" y="1828800"/>
            <a:ext cx="3657600" cy="2133720"/>
          </a:xfrm>
          <a:prstGeom prst="ellipse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ГО: 2932,9 тыс.руб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920" y="4038480"/>
            <a:ext cx="3124080" cy="2438640"/>
          </a:xfrm>
          <a:prstGeom prst="ellipse">
            <a:avLst/>
          </a:prstGeom>
          <a:solidFill>
            <a:srgbClr val="d96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ницип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таль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26,3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6400800" y="3962520"/>
            <a:ext cx="2057400" cy="1752480"/>
          </a:xfrm>
          <a:prstGeom prst="ellipse">
            <a:avLst/>
          </a:prstGeom>
          <a:solidFill>
            <a:srgbClr val="f2ce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епрограмм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рас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6,6 тыс.руб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 flipH="1">
            <a:off x="2362320" y="3505320"/>
            <a:ext cx="838080" cy="60948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6248520" y="3352680"/>
            <a:ext cx="609480" cy="838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4038480" y="61722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0880" y="304920"/>
            <a:ext cx="7925040" cy="624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Бюджетная политика в сфере расходов бюджета Натальевского сельского поселения была направлена на решение социальных и экономических задач поселения. Приоритетом являлось обеспечение населения бюджетными услугами отраслей культуры  и благоустройство терри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На эти цели направлено 1429,6 тыс. рублей. Расходы на благоустройство и культуру состави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1f28"/>
                </a:solidFill>
                <a:latin typeface="Verdana"/>
              </a:rPr>
              <a:t>48,7 процента всех расходов бюджета за 1 квартал 2025 год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ОКАЗАТЕЛИ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бюджета Натальевского  сельского поселения Неклиновского района за 1 квартал  2025 года   (тыс.рублей)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0" name="Object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091200" cy="4062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-4809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ject 5" descr=""/>
          <p:cNvPicPr/>
          <p:nvPr/>
        </p:nvPicPr>
        <p:blipFill>
          <a:blip r:embed="rId2"/>
          <a:stretch/>
        </p:blipFill>
        <p:spPr>
          <a:xfrm>
            <a:off x="-457200" y="1523880"/>
            <a:ext cx="1010592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8"/>
          <p:cNvGrpSpPr/>
          <p:nvPr/>
        </p:nvGrpSpPr>
        <p:grpSpPr>
          <a:xfrm>
            <a:off x="685800" y="5410080"/>
            <a:ext cx="6418440" cy="466920"/>
            <a:chOff x="685800" y="5410080"/>
            <a:chExt cx="6418440" cy="466920"/>
          </a:xfrm>
        </p:grpSpPr>
        <p:sp>
          <p:nvSpPr>
            <p:cNvPr id="294" name="AutoShape 9"/>
            <p:cNvSpPr/>
            <p:nvPr/>
          </p:nvSpPr>
          <p:spPr>
            <a:xfrm>
              <a:off x="685800" y="5410080"/>
              <a:ext cx="64184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ан 2025 г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0"/>
            <p:cNvSpPr/>
            <p:nvPr/>
          </p:nvSpPr>
          <p:spPr>
            <a:xfrm>
              <a:off x="924120" y="5562360"/>
              <a:ext cx="456840" cy="195120"/>
            </a:xfrm>
            <a:prstGeom prst="flowChartProcess">
              <a:avLst/>
            </a:prstGeom>
            <a:solidFill>
              <a:srgbClr val="771f28"/>
            </a:solidFill>
            <a:ln w="9360">
              <a:solidFill>
                <a:srgbClr val="77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1"/>
            <p:cNvSpPr/>
            <p:nvPr/>
          </p:nvSpPr>
          <p:spPr>
            <a:xfrm>
              <a:off x="6408720" y="5529240"/>
              <a:ext cx="456840" cy="228240"/>
            </a:xfrm>
            <a:prstGeom prst="flowChartProcess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12"/>
          <p:cNvSpPr/>
          <p:nvPr/>
        </p:nvSpPr>
        <p:spPr>
          <a:xfrm>
            <a:off x="6095880" y="5724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 1 кв. 202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5-04-01T11:48:08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