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766A-28F4-463C-8119-EC9147A4E3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EE0A-606F-488A-A4DD-6ECDB601A0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7C0B-EE2B-4AB8-B376-BF1346096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8CDD-A06C-42F2-9FD3-0CB5A0FC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E650-C984-4B7B-A7CA-9337E5DFB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CE62-1CDE-4113-B4E5-D4C521B51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7C04-0C08-4421-B6EF-C0D152A4E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C4C0-1553-459C-92F6-B2D296DF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590F-8766-42D7-B2EE-53F00C7C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38FAD-8FEB-415B-89AE-D355138A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5549D-3DAE-4E73-8E23-A6629320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991F-3215-4D2F-976E-39E6E355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F072-34CF-4B5D-8BB1-94026836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74C9-D245-428E-A4EE-E01950B9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FD28-31EC-468A-8211-17C6DC49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EE5A-4F8F-402F-A6F4-B494D39F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68F7-4139-4E21-A27B-9495A3EC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2BF15-B55B-4700-9776-FCDC48DA3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E915-56A5-46BA-9D3A-911A23695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C36F5-4821-4171-96FE-7668F2ACB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0F6B8-7D9A-4666-BDC0-E0E865D2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51F09-4AD3-40D5-8A6E-5BCB98AA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955AD-02F2-4C55-A190-B2F96DC4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AF4F2-6512-452B-98F5-690AA235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2AC2-EC00-4A5B-B1D4-CBD4337A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485D1-BA01-4EBC-9A9C-A8BA1E09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557F4-5C5F-405A-B1E9-3CD7C72D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9C002-BA87-4828-AEC9-4A760693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E78B9-1EF4-424C-9DE1-6CFBA0CC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AE4DB-4D10-4A8A-B4E0-CEB59A5B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0B2B3-3AED-42DD-A9E9-750A52BC0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A1690-9C25-4C5D-BC0B-A0A9B2D9C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01E97-83BA-49BE-AF48-C4F19E237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8C26D-5931-41E1-A6D8-E943B19C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16787-047C-42A5-8188-5E1A525C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5921-E5B9-4DDC-839D-3BF678FB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64BB9-5F9C-48E6-A524-C1BC8E9E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7DC45-6AD3-42AB-857E-EC3F2C7D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0880E-509E-4F59-BA18-EB4D9ECC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D504D-EC82-4E1B-8D23-ECBEAB0A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F09C8-7A5B-4869-9545-DE0867B7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5E721-7AFB-4A69-86DB-5DBE520B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EF9E9-86DD-46C1-9D1E-6491A8AD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16780-AA13-458D-A890-435B14CAA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2F11A-FA76-471D-9421-62CFA6C27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F4775-25D0-4D61-B773-F37256CE7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9849-3588-4999-B9E9-A4EA844F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787FE-FCCF-4C1F-AB84-652B43BF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FBCDD-727C-492A-A467-343DFCCC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4F975-F264-4D6A-9332-AC69EAD1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55953-2DA6-4214-9CEC-B7672C89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D6340-76B9-4424-A005-7AADD3AE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72729-6F01-466C-A670-B013D380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D4079-74CA-461F-8559-390A0006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81A35-01E8-44D1-B60D-D16C162D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65DB3-B794-471C-AECB-95D760DD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ACFC3-B754-43B9-8077-420961D7E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753A-6CD3-43C1-A606-86EC7C30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B05A5-4791-4773-8A6A-1C9D173D3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603F-E961-4E9D-83A3-4F3C19A6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A4EC-EC50-45D5-8D5F-1A7F7BA8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0092-94B6-4CED-955E-B3105748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3AC5-09AD-44F1-A214-C1B026A7605D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0989-0A10-4AF7-BA92-99124FCE933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6382-45F2-4BF1-B61F-1D152AA5EF77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F43A-37FF-4C55-85AD-032E6D9B62A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4CB7-4289-4925-9EE2-A3A2DF8474E0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65B6-724C-4BBE-A7D1-817C65755F4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602D-A920-479B-942D-D9157ED59759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9FBF-08A0-4521-86E7-98EA60C0101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E41CD-A010-401D-85A1-1F31CE49E2C3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425E-A446-4983-8453-67512170A98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1828800"/>
            <a:ext cx="8610480" cy="2666880"/>
          </a:xfrm>
          <a:prstGeom prst="rect">
            <a:avLst/>
          </a:prstGeom>
          <a:noFill/>
          <a:ln w="9360">
            <a:solidFill>
              <a:srgbClr val="99ff66"/>
            </a:solidFill>
            <a:miter/>
          </a:ln>
        </p:spPr>
        <p:txBody>
          <a:bodyPr lIns="45720" rIns="45720" t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13f9a"/>
                </a:solidFill>
                <a:latin typeface="Arial Black"/>
              </a:rPr>
              <a:t>Сведения</a:t>
            </a:r>
            <a:br>
              <a:rPr sz="3600"/>
            </a:br>
            <a:r>
              <a:rPr b="1" i="1" lang="ru-RU" sz="3600" spc="-1" strike="noStrike">
                <a:solidFill>
                  <a:srgbClr val="b13f9a"/>
                </a:solidFill>
                <a:latin typeface="Arial Black"/>
              </a:rPr>
              <a:t>о ходе исполнения бюджета Натальевского сельского поселения </a:t>
            </a:r>
            <a:br>
              <a:rPr sz="3600"/>
            </a:br>
            <a:r>
              <a:rPr b="1" i="1" lang="ru-RU" sz="3600" spc="-1" strike="noStrike">
                <a:solidFill>
                  <a:srgbClr val="b13f9a"/>
                </a:solidFill>
                <a:latin typeface="Arial Black"/>
              </a:rPr>
              <a:t>Неклиновского района </a:t>
            </a:r>
            <a:br>
              <a:rPr sz="3600"/>
            </a:br>
            <a:r>
              <a:rPr b="1" i="1" lang="ru-RU" sz="3600" spc="-1" strike="noStrike">
                <a:solidFill>
                  <a:srgbClr val="b13f9a"/>
                </a:solidFill>
                <a:latin typeface="Arial Black"/>
              </a:rPr>
              <a:t>за 1 полугодие 2025 год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7"/>
          <p:cNvSpPr/>
          <p:nvPr/>
        </p:nvSpPr>
        <p:spPr>
          <a:xfrm>
            <a:off x="1403280" y="333360"/>
            <a:ext cx="62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1f28"/>
                </a:solidFill>
                <a:latin typeface="Arial Black"/>
              </a:rPr>
              <a:t>Доходы бюджета Натальевского сельского поселения за 1 полугодие 2025 года составили 7985,9 тыс.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Object 9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675560" cy="535464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10"/>
          <p:cNvSpPr/>
          <p:nvPr/>
        </p:nvSpPr>
        <p:spPr>
          <a:xfrm>
            <a:off x="4038480" y="6172200"/>
            <a:ext cx="1067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146160" y="-176040"/>
            <a:ext cx="8815320" cy="3455640"/>
          </a:xfrm>
          <a:prstGeom prst="rect">
            <a:avLst/>
          </a:prstGeom>
          <a:ln w="0">
            <a:noFill/>
          </a:ln>
        </p:spPr>
      </p:pic>
      <p:pic>
        <p:nvPicPr>
          <p:cNvPr id="232" name="Объект 7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7834320" cy="4187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1403280" y="333360"/>
            <a:ext cx="626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 Black"/>
              </a:rPr>
              <a:t>Расходы бюджета Натальевского сельского поселения Неклиновского района за 1 полугодие 2025 год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 Black"/>
              </a:rPr>
              <a:t>Всего 7836,5 тыс.руб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Object 3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620120" cy="499896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4"/>
          <p:cNvSpPr/>
          <p:nvPr/>
        </p:nvSpPr>
        <p:spPr>
          <a:xfrm>
            <a:off x="4038480" y="6172200"/>
            <a:ext cx="1067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Verdana"/>
              </a:rPr>
              <a:t>На реализацию муниципальных программ Натальевского сельского поселения из бюджета поселения за 1полугодие 2025 года направлено 7642,6 тыс. рублей, что составляет 43,7 процентов к годовым плановым назначениям или 97,5 процентов всех расходов бюджета поселения.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Oval 4"/>
          <p:cNvSpPr/>
          <p:nvPr/>
        </p:nvSpPr>
        <p:spPr>
          <a:xfrm>
            <a:off x="2743200" y="1828800"/>
            <a:ext cx="3657600" cy="2133720"/>
          </a:xfrm>
          <a:prstGeom prst="ellipse">
            <a:avLst/>
          </a:prstGeom>
          <a:solidFill>
            <a:srgbClr val="e69c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Расх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СЕГО: 7836,5 тыс.руб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6"/>
          <p:cNvSpPr/>
          <p:nvPr/>
        </p:nvSpPr>
        <p:spPr>
          <a:xfrm>
            <a:off x="304920" y="4038480"/>
            <a:ext cx="3124080" cy="2438640"/>
          </a:xfrm>
          <a:prstGeom prst="ellipse">
            <a:avLst/>
          </a:prstGeom>
          <a:solidFill>
            <a:srgbClr val="d96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из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униципа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грам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талье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ельского поселения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642,6 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8"/>
          <p:cNvSpPr/>
          <p:nvPr/>
        </p:nvSpPr>
        <p:spPr>
          <a:xfrm>
            <a:off x="6400800" y="3962520"/>
            <a:ext cx="2057400" cy="1752480"/>
          </a:xfrm>
          <a:prstGeom prst="ellipse">
            <a:avLst/>
          </a:prstGeom>
          <a:solidFill>
            <a:srgbClr val="f2ce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непрограмм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расх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193,9 тыс.руб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9"/>
          <p:cNvSpPr/>
          <p:nvPr/>
        </p:nvSpPr>
        <p:spPr>
          <a:xfrm flipH="1">
            <a:off x="2362320" y="3505320"/>
            <a:ext cx="838080" cy="60948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1"/>
          <p:cNvSpPr/>
          <p:nvPr/>
        </p:nvSpPr>
        <p:spPr>
          <a:xfrm>
            <a:off x="6248520" y="3352680"/>
            <a:ext cx="609480" cy="83844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2"/>
          <p:cNvSpPr/>
          <p:nvPr/>
        </p:nvSpPr>
        <p:spPr>
          <a:xfrm>
            <a:off x="4038480" y="6172200"/>
            <a:ext cx="1067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80880" y="304920"/>
            <a:ext cx="7925040" cy="6248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771f28"/>
                </a:solidFill>
                <a:latin typeface="Verdana"/>
              </a:rPr>
              <a:t>Бюджетная политика в сфере расходов бюджета Натальевского сельского поселения была направлена на решение социальных и экономических задач поселения. Приоритетом являлось обеспечение населения бюджетными услугами отраслей культуры  и благоустройство территор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1f28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771f28"/>
                </a:solidFill>
                <a:latin typeface="Verdana"/>
              </a:rPr>
              <a:t>На эти цели направлено 3814,2 тыс. рублей. Расходы на благоустройство и культуру составил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1f28"/>
                </a:solidFill>
                <a:latin typeface="Verdana"/>
              </a:rPr>
              <a:t>48,7 процента всех расходов бюджета за 1 полугодие 2025 год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Verdana"/>
              </a:rPr>
              <a:t>ПОКАЗАТЕЛИ 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Verdana"/>
              </a:rPr>
              <a:t>бюджета Натальевского  сельского поселения Неклиновского района за 1 полугодие  2025 года   (тыс.рублей)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5" name="Object 3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6091200" cy="406224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6"/>
          <p:cNvSpPr/>
          <p:nvPr/>
        </p:nvSpPr>
        <p:spPr>
          <a:xfrm>
            <a:off x="-480960" y="17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Object 5" descr=""/>
          <p:cNvPicPr/>
          <p:nvPr/>
        </p:nvPicPr>
        <p:blipFill>
          <a:blip r:embed="rId2"/>
          <a:stretch/>
        </p:blipFill>
        <p:spPr>
          <a:xfrm>
            <a:off x="-457200" y="1523880"/>
            <a:ext cx="10105920" cy="3324240"/>
          </a:xfrm>
          <a:prstGeom prst="rect">
            <a:avLst/>
          </a:prstGeom>
          <a:ln w="0">
            <a:noFill/>
          </a:ln>
        </p:spPr>
      </p:pic>
      <p:grpSp>
        <p:nvGrpSpPr>
          <p:cNvPr id="248" name="Group 8"/>
          <p:cNvGrpSpPr/>
          <p:nvPr/>
        </p:nvGrpSpPr>
        <p:grpSpPr>
          <a:xfrm>
            <a:off x="685800" y="5410080"/>
            <a:ext cx="6418440" cy="466920"/>
            <a:chOff x="685800" y="5410080"/>
            <a:chExt cx="6418440" cy="466920"/>
          </a:xfrm>
        </p:grpSpPr>
        <p:sp>
          <p:nvSpPr>
            <p:cNvPr id="249" name="AutoShape 9"/>
            <p:cNvSpPr/>
            <p:nvPr/>
          </p:nvSpPr>
          <p:spPr>
            <a:xfrm>
              <a:off x="685800" y="5410080"/>
              <a:ext cx="641844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лан 2025 г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10"/>
            <p:cNvSpPr/>
            <p:nvPr/>
          </p:nvSpPr>
          <p:spPr>
            <a:xfrm>
              <a:off x="924120" y="5562360"/>
              <a:ext cx="456840" cy="195120"/>
            </a:xfrm>
            <a:prstGeom prst="flowChartProcess">
              <a:avLst/>
            </a:prstGeom>
            <a:solidFill>
              <a:srgbClr val="771f28"/>
            </a:solidFill>
            <a:ln w="9360">
              <a:solidFill>
                <a:srgbClr val="771f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11"/>
            <p:cNvSpPr/>
            <p:nvPr/>
          </p:nvSpPr>
          <p:spPr>
            <a:xfrm>
              <a:off x="6408720" y="5529240"/>
              <a:ext cx="456840" cy="228240"/>
            </a:xfrm>
            <a:prstGeom prst="flowChartProcess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Rectangle 12"/>
          <p:cNvSpPr/>
          <p:nvPr/>
        </p:nvSpPr>
        <p:spPr>
          <a:xfrm>
            <a:off x="6095880" y="572436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кт 1 полугодия 2025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25-07-14T08:39:43Z</dcterms:modified>
  <cp:revision>1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